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0AAE-E432-4886-8FA0-93C982C07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523880"/>
            <a:ext cx="7086600" cy="22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 AR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1D6-6261-4919-AEA8-39B0382E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F3D-DFB6-4A1F-BFE2-59174160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3B7-B0C6-488E-98F8-5B7F039B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D92-13D3-476C-AD35-54EF8F59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D6F8-E575-487B-B7CB-26713882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B086-8894-4D6F-8052-E919ECE9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2AD5-9E13-4767-9E32-C9EA19BC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11D5-F435-46B2-A855-66DE892C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C760-E654-4BB5-9731-21E3C482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EEA3-9CC3-44B3-95F4-6985CD1E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FA01-ED99-4317-B04C-79A8D671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116-30BB-4819-9CE3-6646ABFF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A11B-86C2-459A-BFBD-67CF0A6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2AC0-97CD-4BFA-9023-7A8E5CBD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D124-9F16-4FB3-A569-E8C965E4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48CD-417E-462A-9581-FA294267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F459-5271-4E0B-B6AD-A8319E12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C4B-87B2-4938-97AA-53BC3767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A9D-C886-41DA-8FE8-80F1B60D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882-F5BA-4612-84BC-3D557DC8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02D-36BA-4D2E-81D7-41DFDA4C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5EB-DEE9-4504-838D-28E27E92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B7F-D977-4B7C-8746-1C58BD3E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092-E3F0-4AA3-A034-70A62BF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CC50-58F8-4518-B21D-66ABB096B45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AF0D-5D89-4014-9693-6383CFADB51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560" y="2286000"/>
            <a:ext cx="7496280" cy="78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a08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The Power Of PowerPoint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4190760"/>
            <a:ext cx="64008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3333"/>
                </a:solidFill>
                <a:latin typeface="Times New Roman"/>
              </a:rPr>
              <a:t>A simple slide show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3333"/>
                </a:solidFill>
                <a:latin typeface="Times New Roman"/>
              </a:rPr>
              <a:t>with no special effect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1847880" cy="17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Power Point Fac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 bulleted list allows you to inden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ust use the arrow on the Toolbar that points to the right to “decreas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d the one that points left to “increas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is just like the outline tool in your Word Process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Design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t is easy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change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font</a:t>
            </a:r>
            <a:r>
              <a:rPr b="0" i="1" lang="en-US" sz="2400" spc="-1" strike="noStrike">
                <a:solidFill>
                  <a:srgbClr val="402000"/>
                </a:solidFill>
                <a:latin typeface="Comic Sans MS"/>
              </a:rPr>
              <a:t>,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6600" spc="-1" strike="noStrike">
                <a:solidFill>
                  <a:srgbClr val="402000"/>
                </a:solidFill>
                <a:latin typeface="Times New Roman"/>
              </a:rPr>
              <a:t>size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style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br>
              <a:rPr sz="2400"/>
            </a:b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ware of  too many words on a slid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ndale Mono"/>
              </a:rPr>
              <a:t>Remember-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Bassett"/>
              </a:rPr>
              <a:t>too </a:t>
            </a:r>
            <a:r>
              <a:rPr b="0" lang="en-US" sz="3200" spc="-1" strike="noStrike">
                <a:solidFill>
                  <a:srgbClr val="402000"/>
                </a:solidFill>
                <a:latin typeface="Amaze"/>
              </a:rPr>
              <a:t>man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Blew"/>
              </a:rPr>
              <a:t>font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Copperplate Gothic Bold"/>
              </a:rPr>
              <a:t>spoil </a:t>
            </a:r>
            <a:r>
              <a:rPr b="0" lang="en-US" sz="3200" spc="-1" strike="noStrike">
                <a:solidFill>
                  <a:srgbClr val="402000"/>
                </a:solidFill>
                <a:latin typeface="BrushScript BT"/>
              </a:rPr>
              <a:t>the </a:t>
            </a:r>
            <a:r>
              <a:rPr b="0" lang="en-US" sz="3200" spc="-1" strike="noStrike">
                <a:solidFill>
                  <a:srgbClr val="402000"/>
                </a:solidFill>
                <a:latin typeface="Carla"/>
              </a:rPr>
              <a:t>slide!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Carla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3240" y="3048120"/>
            <a:ext cx="5429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0640" y="348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457200"/>
            <a:ext cx="2057400" cy="1981080"/>
          </a:xfrm>
          <a:prstGeom prst="sun">
            <a:avLst>
              <a:gd name="adj" fmla="val 25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33720" y="2590920"/>
            <a:ext cx="590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text above was created using ....Word Art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Comic Sans MS"/>
              </a:rPr>
              <a:t>And this is an example of Italicized text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Comic Sans MS"/>
              </a:rPr>
              <a:t>Aligned to the Center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Every Field is Easy to Edi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ust click on a text area. A cursor appears, just like in a word process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 text box grows to accommodate the tex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change the shape of a text box, pull the “handles” until it looks just right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Spell Checker works in PowerPoint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Adding Clip Art to a Slide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an make a message leap off the scree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change an image, double-click. The clip art menu will appear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good picture can inspire you to edit your word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51400" y="1828800"/>
            <a:ext cx="30132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71600" y="3200400"/>
            <a:ext cx="31240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3333"/>
                </a:solidFill>
                <a:latin typeface="Times New Roman"/>
              </a:rPr>
              <a:t>A Few Helpful Tip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892160"/>
            <a:ext cx="3809880" cy="3986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the Views to organize your slide show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nd edit an Outline directly in Outline view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rearrange slides, go to Slide Sorter view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uble click a slide in any view to activate i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3333"/>
                </a:solidFill>
                <a:latin typeface="Times New Roman"/>
              </a:rPr>
              <a:t>Now You 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08366"/>
                </a:solidFill>
                <a:latin typeface="Times New Roman"/>
              </a:rPr>
              <a:t>You’ve Got the Power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609480"/>
            <a:ext cx="1752840" cy="1600200"/>
          </a:xfrm>
          <a:prstGeom prst="sun">
            <a:avLst>
              <a:gd name="adj" fmla="val 25000"/>
            </a:avLst>
          </a:prstGeom>
          <a:solidFill>
            <a:srgbClr val="cd3333"/>
          </a:solidFill>
          <a:ln w="0">
            <a:noFill/>
          </a:ln>
          <a:effectLst>
            <a:outerShdw dist="17819" dir="2700000" blurRad="0" rotWithShape="0">
              <a:srgbClr val="7a1e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18:46:05Z</dcterms:created>
  <dc:creator>Hank Piatek</dc:creator>
  <dc:description/>
  <dc:language>en-US</dc:language>
  <cp:lastModifiedBy>cworden</cp:lastModifiedBy>
  <dcterms:modified xsi:type="dcterms:W3CDTF">2008-08-14T18:47:13Z</dcterms:modified>
  <cp:revision>7</cp:revision>
  <dc:subject/>
  <dc:title> The Power Of PowerPoint</dc:title>
</cp:coreProperties>
</file>